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8.png" ContentType="image/png"/>
  <Override PartName="/ppt/media/image7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4D51-49C4-4F02-97CC-3A562A208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74B4-A998-4A87-A1AD-CBFBC93D21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44DD-7D81-4F7E-A7D1-B52761A6AE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08CD-CD2A-4E65-8553-0FFB7734C9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9977-F795-4C66-BD00-F08473A29A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C44-D99F-49E8-A091-BF2CBEC2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E08-E399-4111-A4F7-5AA06734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8A3-F9FF-4E43-B892-7E06EB4F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F27-39A3-4EE8-8FEF-2A7D06FB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A141-3B97-43FC-A9E4-E922219D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31C5-8E9D-4A4B-9969-7886DBC2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D33F-7FA6-41E9-8926-14B44CD3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B144-D0B2-4C69-A276-38BBACB1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B4E9-EE2C-48EC-9043-274C330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EC63-ED15-4719-B9CD-0D1388BB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DAF2-2800-45CC-8150-96BD5AC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380-E7E7-44A6-B9BF-07B72A83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1F64-C887-4159-AA05-13F9F917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19ED-10A8-4A59-BEE1-691862FD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4AF3-9433-461C-9052-D9C91076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9346-CC86-46B3-AD5C-C39FFB37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4689-E40A-45BF-B825-3A58EE05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43D-889F-4F76-91A3-B808B052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A86-7950-4554-BEBD-E7A048AE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231-B661-4068-9895-B571E778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5C2-CA0E-4604-9E6A-44B3CB47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E6F-E109-4978-B92E-950F0F92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B74-1B67-443A-AF7A-5D4173E9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102-0D07-463B-886A-0696471F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69F0-E834-4DB9-B512-49E180FF168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2988-E49D-4C6F-9E23-53AA2BCE6C4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good_178_1.jpg"/>
          <p:cNvPicPr/>
          <p:nvPr/>
        </p:nvPicPr>
        <p:blipFill>
          <a:blip r:embed="rId1"/>
          <a:stretch/>
        </p:blipFill>
        <p:spPr>
          <a:xfrm>
            <a:off x="428760" y="4929120"/>
            <a:ext cx="2286000" cy="1714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3" name="Рисунок 9" descr="eda_5.jpg"/>
          <p:cNvPicPr/>
          <p:nvPr/>
        </p:nvPicPr>
        <p:blipFill>
          <a:blip r:embed="rId2"/>
          <a:stretch/>
        </p:blipFill>
        <p:spPr>
          <a:xfrm>
            <a:off x="5214960" y="1714680"/>
            <a:ext cx="3718080" cy="2809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4" name="Рисунок 10" descr="iCAT97YUH.jpg"/>
          <p:cNvPicPr/>
          <p:nvPr/>
        </p:nvPicPr>
        <p:blipFill>
          <a:blip r:embed="rId3"/>
          <a:stretch/>
        </p:blipFill>
        <p:spPr>
          <a:xfrm>
            <a:off x="357120" y="1143000"/>
            <a:ext cx="1397160" cy="16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000160" y="16466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ки, жиры и углеводы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йдут века, эпохи, годы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 вам мы прикованы на век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 вас немыслим человек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7" descr="fruits.jpg"/>
          <p:cNvPicPr/>
          <p:nvPr/>
        </p:nvPicPr>
        <p:blipFill>
          <a:blip r:embed="rId4"/>
          <a:stretch/>
        </p:blipFill>
        <p:spPr>
          <a:xfrm>
            <a:off x="7143840" y="214200"/>
            <a:ext cx="1762200" cy="13334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7" name="Рисунок 8" descr="63.jpg"/>
          <p:cNvPicPr/>
          <p:nvPr/>
        </p:nvPicPr>
        <p:blipFill>
          <a:blip r:embed="rId5"/>
          <a:stretch/>
        </p:blipFill>
        <p:spPr>
          <a:xfrm>
            <a:off x="3000240" y="2714760"/>
            <a:ext cx="1924200" cy="2171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8" name="Рисунок 10" descr="fruktu3.jpg"/>
          <p:cNvPicPr/>
          <p:nvPr/>
        </p:nvPicPr>
        <p:blipFill>
          <a:blip r:embed="rId6"/>
          <a:stretch/>
        </p:blipFill>
        <p:spPr>
          <a:xfrm>
            <a:off x="357120" y="3000240"/>
            <a:ext cx="2381400" cy="1791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9" name="Рисунок 14" descr="med.jpg"/>
          <p:cNvPicPr/>
          <p:nvPr/>
        </p:nvPicPr>
        <p:blipFill>
          <a:blip r:embed="rId7"/>
          <a:stretch/>
        </p:blipFill>
        <p:spPr>
          <a:xfrm>
            <a:off x="3000240" y="5000760"/>
            <a:ext cx="2032200" cy="1685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017960" cy="3013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4500720" y="785880"/>
            <a:ext cx="4257360" cy="2838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3"/>
          <a:stretch/>
        </p:blipFill>
        <p:spPr>
          <a:xfrm>
            <a:off x="642960" y="3929040"/>
            <a:ext cx="5000760" cy="1865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Админ\Pictures\dizygotheca-elegantissima.jpg"/>
          <p:cNvPicPr/>
          <p:nvPr/>
        </p:nvPicPr>
        <p:blipFill>
          <a:blip r:embed="rId4"/>
          <a:stretch/>
        </p:blipFill>
        <p:spPr>
          <a:xfrm>
            <a:off x="5857920" y="3863880"/>
            <a:ext cx="2712960" cy="2994120"/>
          </a:xfrm>
          <a:prstGeom prst="rect">
            <a:avLst/>
          </a:prstGeom>
          <a:ln w="38160">
            <a:solidFill>
              <a:srgbClr val="004e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71640" y="620640"/>
          <a:ext cx="6719760" cy="4907160"/>
        </p:xfrm>
        <a:graphic>
          <a:graphicData uri="http://schemas.openxmlformats.org/drawingml/2006/table">
            <a:tbl>
              <a:tblPr/>
              <a:tblGrid>
                <a:gridCol w="6719760"/>
              </a:tblGrid>
              <a:tr h="4909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ты, придя с мороз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ваешь крепкий ча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енько сахарозу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чашке ложкой помеша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ноградную глюк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едовую фруктозу, |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олочную лакт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ят взрослый и малыш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 крахмалом и клетчатко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 совсем-совсем несладки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же нас не удивишь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 устроена природа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 тоже углеводы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Ж. Цобкал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1341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Ответить на вопрос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именение в быту углевод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животные могут переваривать целлюлозу, а человек не может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 бумага  более предпочтительна для   жирных продуктов: масла, маргарина.  Почему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фриканские племена, индейцы, корейцы и китайцы довольно часто употребляют в пищу насекомых. Есть ли смысл в употреблении такой пищи? Почему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Разберите жизненные ситуации с точки зрения химии.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которые из модных сейчас пищевых добавок содержат пищевые волокна из целлюлозы.  Объясните с точки зрения химии, почему пища, содержащая пищевые волокна, создает ощущение сытости, хотя содержит мало калори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хлебная мякоть ноздреватая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связь между клубнями картофеля и автопокрышкой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«Химик не такой должен быть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оторый дальше дыму и пеплу ничего не видит, а такой, который на основании опытных данных может делать теоретические выводы».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Михаил Васильевич Ломоносов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br>
              <a:rPr sz="4500"/>
            </a:b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Какие  продукты  содержат  и богаты  углеводами?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2" name="Содержимое 12" descr="конфеты3.jpg"/>
          <p:cNvPicPr/>
          <p:nvPr/>
        </p:nvPicPr>
        <p:blipFill>
          <a:blip r:embed="rId1"/>
          <a:stretch/>
        </p:blipFill>
        <p:spPr>
          <a:xfrm>
            <a:off x="3143160" y="2143080"/>
            <a:ext cx="221472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3" name="Рисунок 4" descr="кешью.jpg"/>
          <p:cNvPicPr/>
          <p:nvPr/>
        </p:nvPicPr>
        <p:blipFill>
          <a:blip r:embed="rId2"/>
          <a:stretch/>
        </p:blipFill>
        <p:spPr>
          <a:xfrm>
            <a:off x="357120" y="3357720"/>
            <a:ext cx="180972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4" name="Рисунок 5" descr="banany.jpg"/>
          <p:cNvPicPr/>
          <p:nvPr/>
        </p:nvPicPr>
        <p:blipFill>
          <a:blip r:embed="rId3"/>
          <a:stretch/>
        </p:blipFill>
        <p:spPr>
          <a:xfrm>
            <a:off x="6858000" y="4357800"/>
            <a:ext cx="185724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5" name="Рисунок 6" descr="baton_nar_1_mini.jpg"/>
          <p:cNvPicPr/>
          <p:nvPr/>
        </p:nvPicPr>
        <p:blipFill>
          <a:blip r:embed="rId4"/>
          <a:stretch/>
        </p:blipFill>
        <p:spPr>
          <a:xfrm>
            <a:off x="5572080" y="2000160"/>
            <a:ext cx="1714680" cy="16430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6" name="Рисунок 8" descr="кешью 2.jpg"/>
          <p:cNvPicPr/>
          <p:nvPr/>
        </p:nvPicPr>
        <p:blipFill>
          <a:blip r:embed="rId5"/>
          <a:stretch/>
        </p:blipFill>
        <p:spPr>
          <a:xfrm>
            <a:off x="1571760" y="1714680"/>
            <a:ext cx="1428480" cy="14284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7" name="Рисунок 9" descr="бананы жёлт.jpg"/>
          <p:cNvPicPr/>
          <p:nvPr/>
        </p:nvPicPr>
        <p:blipFill>
          <a:blip r:embed="rId6"/>
          <a:stretch/>
        </p:blipFill>
        <p:spPr>
          <a:xfrm>
            <a:off x="2357280" y="4286160"/>
            <a:ext cx="1739880" cy="18417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8" name="Рисунок 10" descr="натюрморт.jpg"/>
          <p:cNvPicPr/>
          <p:nvPr/>
        </p:nvPicPr>
        <p:blipFill>
          <a:blip r:embed="rId7"/>
          <a:stretch/>
        </p:blipFill>
        <p:spPr>
          <a:xfrm>
            <a:off x="7500960" y="1571760"/>
            <a:ext cx="1357200" cy="20714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9" name="Рисунок 13" descr="конфеты 2.jpg"/>
          <p:cNvPicPr/>
          <p:nvPr/>
        </p:nvPicPr>
        <p:blipFill>
          <a:blip r:embed="rId8"/>
          <a:stretch/>
        </p:blipFill>
        <p:spPr>
          <a:xfrm>
            <a:off x="357120" y="4572000"/>
            <a:ext cx="1571760" cy="20001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0" name="Рисунок 14" descr="конфеты.jpg"/>
          <p:cNvPicPr/>
          <p:nvPr/>
        </p:nvPicPr>
        <p:blipFill>
          <a:blip r:embed="rId9"/>
          <a:stretch/>
        </p:blipFill>
        <p:spPr>
          <a:xfrm>
            <a:off x="285840" y="1928880"/>
            <a:ext cx="106668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1" name="Рисунок 15" descr="шоколад.jpg"/>
          <p:cNvPicPr/>
          <p:nvPr/>
        </p:nvPicPr>
        <p:blipFill>
          <a:blip r:embed="rId10"/>
          <a:stretch/>
        </p:blipFill>
        <p:spPr>
          <a:xfrm>
            <a:off x="4357800" y="4214880"/>
            <a:ext cx="2071440" cy="23572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755640" y="1325520"/>
          <a:ext cx="7488360" cy="406404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4064040">
                <a:tc>
                  <a:txBody>
                    <a:bodyPr lIns="110520" rIns="110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чему растения имеют зеленый цве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такое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ую роль играют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то является поставщиков СО2 для фотосинтез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о в растениях называют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«фабрикой» или ( «Зеленой лабораторией»)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поглощения энергии солнечного света и образования органических веществ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ой вывод можно сделать о фотосинтез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ие образуются в процессе фотосинтеза органические веще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дальше с этими веществами происходи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468360" y="1052640"/>
            <a:ext cx="79200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ая главная реакция планеты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С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6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=   С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6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Общая формула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5" name="Прямоугольник 8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8401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Классификация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7" name="Прямоугольник 13" descr=""/>
          <p:cNvPicPr/>
          <p:nvPr/>
        </p:nvPicPr>
        <p:blipFill>
          <a:blip r:embed="rId1"/>
          <a:stretch/>
        </p:blipFill>
        <p:spPr>
          <a:xfrm>
            <a:off x="2968560" y="853920"/>
            <a:ext cx="3183120" cy="871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8" descr=""/>
          <p:cNvPicPr/>
          <p:nvPr/>
        </p:nvPicPr>
        <p:blipFill>
          <a:blip r:embed="rId2"/>
          <a:stretch/>
        </p:blipFill>
        <p:spPr>
          <a:xfrm>
            <a:off x="5821200" y="2365200"/>
            <a:ext cx="3127680" cy="5907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31" descr=""/>
          <p:cNvPicPr/>
          <p:nvPr/>
        </p:nvPicPr>
        <p:blipFill>
          <a:blip r:embed="rId3"/>
          <a:stretch/>
        </p:blipFill>
        <p:spPr>
          <a:xfrm>
            <a:off x="3176640" y="2365200"/>
            <a:ext cx="2693880" cy="5907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32" descr=""/>
          <p:cNvPicPr/>
          <p:nvPr/>
        </p:nvPicPr>
        <p:blipFill>
          <a:blip r:embed="rId4"/>
          <a:stretch/>
        </p:blipFill>
        <p:spPr>
          <a:xfrm>
            <a:off x="109440" y="2365200"/>
            <a:ext cx="3151440" cy="590760"/>
          </a:xfrm>
          <a:prstGeom prst="rect">
            <a:avLst/>
          </a:prstGeom>
          <a:ln w="0">
            <a:noFill/>
          </a:ln>
        </p:spPr>
      </p:pic>
      <p:cxnSp>
        <p:nvCxnSpPr>
          <p:cNvPr id="131" name="Прямая со стрелкой 36"/>
          <p:cNvCxnSpPr/>
          <p:nvPr/>
        </p:nvCxnSpPr>
        <p:spPr>
          <a:xfrm>
            <a:off x="4572000" y="1714680"/>
            <a:ext cx="282312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2" name="Прямая со стрелкой 39"/>
          <p:cNvCxnSpPr>
            <a:stCxn id="127" idx="2"/>
          </p:cNvCxnSpPr>
          <p:nvPr/>
        </p:nvCxnSpPr>
        <p:spPr>
          <a:xfrm flipH="1">
            <a:off x="4523760" y="1725120"/>
            <a:ext cx="3708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" name="Прямая со стрелкой 43"/>
          <p:cNvCxnSpPr>
            <a:stCxn id="127" idx="2"/>
          </p:cNvCxnSpPr>
          <p:nvPr/>
        </p:nvCxnSpPr>
        <p:spPr>
          <a:xfrm flipH="1">
            <a:off x="1685880" y="1725120"/>
            <a:ext cx="287532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Функции углеводов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Picture 2" descr="C:\Users\ЕГЭ 2019\Desktop\image_5e9eb2f41f2fe.png"/>
          <p:cNvPicPr/>
          <p:nvPr/>
        </p:nvPicPr>
        <p:blipFill>
          <a:blip r:embed="rId1"/>
          <a:stretch/>
        </p:blipFill>
        <p:spPr>
          <a:xfrm>
            <a:off x="571680" y="2071800"/>
            <a:ext cx="2709720" cy="332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Админ\Pictures\kartoshka.jpg"/>
          <p:cNvPicPr/>
          <p:nvPr/>
        </p:nvPicPr>
        <p:blipFill>
          <a:blip r:embed="rId2"/>
          <a:stretch/>
        </p:blipFill>
        <p:spPr>
          <a:xfrm>
            <a:off x="3571920" y="1928880"/>
            <a:ext cx="2962080" cy="2962080"/>
          </a:xfrm>
          <a:prstGeom prst="rect">
            <a:avLst/>
          </a:prstGeom>
          <a:ln w="38160">
            <a:solidFill>
              <a:srgbClr val="546422"/>
            </a:solidFill>
            <a:miter/>
          </a:ln>
        </p:spPr>
      </p:pic>
      <p:pic>
        <p:nvPicPr>
          <p:cNvPr id="137" name="Рисунок 2" descr=""/>
          <p:cNvPicPr/>
          <p:nvPr/>
        </p:nvPicPr>
        <p:blipFill>
          <a:blip r:embed="rId3"/>
          <a:srcRect l="0" t="0" r="-107" b="30680"/>
          <a:stretch/>
        </p:blipFill>
        <p:spPr>
          <a:xfrm>
            <a:off x="5643720" y="4786200"/>
            <a:ext cx="2682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7" descr="гликоген 7.jpg"/>
          <p:cNvPicPr/>
          <p:nvPr/>
        </p:nvPicPr>
        <p:blipFill>
          <a:blip r:embed="rId1"/>
          <a:stretch/>
        </p:blipFill>
        <p:spPr>
          <a:xfrm>
            <a:off x="500040" y="642960"/>
            <a:ext cx="2428920" cy="1714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39" name="Picture 3" descr="C:\Users\Админ\Pictures\75805884_twostriped_grasshopper.jpg"/>
          <p:cNvPicPr/>
          <p:nvPr/>
        </p:nvPicPr>
        <p:blipFill>
          <a:blip r:embed="rId2"/>
          <a:stretch/>
        </p:blipFill>
        <p:spPr>
          <a:xfrm>
            <a:off x="3071880" y="642960"/>
            <a:ext cx="2819160" cy="2914560"/>
          </a:xfrm>
          <a:prstGeom prst="rect">
            <a:avLst/>
          </a:prstGeom>
          <a:ln w="28440">
            <a:solidFill>
              <a:srgbClr val="546422"/>
            </a:solidFill>
            <a:miter/>
          </a:ln>
        </p:spPr>
      </p:pic>
      <p:pic>
        <p:nvPicPr>
          <p:cNvPr id="140" name="Picture 2" descr="C:\Users\ЕГЭ 2019\Desktop\474920.jpg"/>
          <p:cNvPicPr/>
          <p:nvPr/>
        </p:nvPicPr>
        <p:blipFill>
          <a:blip r:embed="rId3"/>
          <a:stretch/>
        </p:blipFill>
        <p:spPr>
          <a:xfrm>
            <a:off x="6500880" y="642960"/>
            <a:ext cx="1781280" cy="313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upload.wikimedia.org/wikipedia/commons/6/6e/Natural_gum_of_plum_tree_01.jpg"/>
          <p:cNvPicPr/>
          <p:nvPr/>
        </p:nvPicPr>
        <p:blipFill>
          <a:blip r:embed="rId4"/>
          <a:stretch/>
        </p:blipFill>
        <p:spPr>
          <a:xfrm>
            <a:off x="785880" y="3571920"/>
            <a:ext cx="363204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5"/>
          <a:stretch/>
        </p:blipFill>
        <p:spPr>
          <a:xfrm>
            <a:off x="4643280" y="3857760"/>
            <a:ext cx="3611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2:52Z</dcterms:created>
  <dc:creator>1</dc:creator>
  <dc:description/>
  <dc:language>en-US</dc:language>
  <cp:lastModifiedBy>USER</cp:lastModifiedBy>
  <dcterms:modified xsi:type="dcterms:W3CDTF">2021-02-26T12:00:17Z</dcterms:modified>
  <cp:revision>250</cp:revision>
  <dc:subject/>
  <dc:title>Слайд 1</dc:title>
</cp:coreProperties>
</file>